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F5D5-0BED-474E-B146-B4ECB1980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778F-3F27-40CB-85C0-6D2BA7DE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CFB2-0683-454A-B788-2DA2202D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47B4-BE81-4B48-B67D-2DDCC31C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1EA1-D996-4254-A741-C1924F4C5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5B75-56E1-46D6-90F5-09F7C50E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277C-5FFC-4149-A72C-5D1AF2BF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E9FB-0BAB-41A8-8F4E-A486289C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0A9D-352D-4AB3-9399-9A5E4E1F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EAE9-9990-4861-BE5B-5BE7DA0D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1B5A-3734-4655-A386-C7416AAB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1EF6-5F29-4534-960C-DB88F527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5539-EB29-4728-9483-0ED43ED0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C5BD-89F2-44CB-BBDD-CDDB6F20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7DB0-0321-4E24-8614-EEEAE988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B863-B938-4CF9-BC97-5BCC8B3E4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3734-872C-432D-8A26-729B561E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1BD3-4241-4403-97A8-3CE7E3AE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0D1D-6237-4237-99CB-4DDE4651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4B0E-0F6D-4AEC-8E53-830EE02F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0AB9-4A7C-48A6-91BF-0B24949C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5599-54D1-4790-85B1-579B43E9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EF28-B164-48A0-8ED0-305CDA17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D43C-37E4-47AD-851D-E8C4115A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02A1-BC0C-4A69-94B7-FF9BE5707A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3276-C34E-4482-8488-A36BD001CC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ecff"/>
                </a:solidFill>
                <a:latin typeface="Arial"/>
              </a:rPr>
              <a:t>VIAŢA SPIRITUALĂ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52280" y="228600"/>
            <a:ext cx="838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ffffff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ffffff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876920" y="15238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3s14</cp:lastModifiedBy>
  <dcterms:modified xsi:type="dcterms:W3CDTF">2012-06-19T10:45:02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